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AB017-DC61-49A1-8DE3-5915CFE17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77267-BF05-46FB-A2CF-F2D3D012E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9DA3D-0599-4405-A30E-4392118E9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16983-AB86-481F-BF90-D1AA5A1D9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5097F-3C94-4DBC-9A10-A3F20ADD0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82029-C403-4D60-8DFB-5DBC8C209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16075-217A-4F22-968D-C4DC43701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51CE0-46CD-45C8-863E-7A19A0D82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A9972-4444-4376-9D0E-A0F659DEA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21155-B687-4D46-B036-33ADC5E28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20E7D-C8EF-49B5-9546-61616A4CB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C3FEE-C2BA-4946-A9E5-958D28620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6B08-164A-4191-914C-B693CBB318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nd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1599840"/>
            <a:ext cx="6400800" cy="4876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fied Artists Transform Movement Into Soun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Scientists Jenny Torine and Ben Margolis attempted to transform movement into sound. This experiment was done to see if it was possible, and to learn what muscle movements sounded like. This experiment can also test the health and nerves of muscles. They taped electrodes to the arm of a person, and the electrodes sensed muscle contractions. When the muscle moves, the electrodes transmit the movement into sound. Higher pitch comes from the upper body, while lower pitch comes from the lower body. When the body relaxes, no sounds are heard. No sound is also heard when the body makes involuntary movements, because the muscles are not contrac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23:54:43Z</dcterms:created>
  <dc:creator>Scott Eisland</dc:creator>
  <dc:description/>
  <dc:language>en-US</dc:language>
  <cp:lastModifiedBy>Scott Eisland</cp:lastModifiedBy>
  <cp:lastPrinted>2010-01-27T00:02:35Z</cp:lastPrinted>
  <dcterms:modified xsi:type="dcterms:W3CDTF">2010-01-27T00:05:10Z</dcterms:modified>
  <cp:revision>1</cp:revision>
  <dc:subject/>
  <dc:title>Sound Summary</dc:title>
</cp:coreProperties>
</file>